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10E-5009-415F-8EA8-82A23FD7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51F-8F83-4467-B520-9CCE8E67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FFD-2F33-432C-AD9F-9F7564FE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CA3-4F47-4938-BA1D-A47E448A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05B9-6EF3-4CE5-92FC-82246D92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4A93-931F-4080-AB9D-B5D4DEF3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659-9C49-46BE-81C0-716B0D09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85B-BF65-4B09-8FC5-4DCD407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6DF-01A3-44D0-B651-D783BDF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85A0-E362-4FCB-A6C9-6DF47C1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E3C3-7AEC-4B46-8D28-2DEA00A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078-EFA4-4403-BDD4-FF7AEB21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C1D-108B-469B-B0C5-5B2331E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FCCE-627E-4766-B5AA-60D9201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6040-4FA1-4CB8-944D-526A1BE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2BA-1FEA-4659-8E4E-721121E0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410-30CF-489D-931D-1FFF8318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812E-25BF-4158-BE12-58D6EAF4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7678-4F1A-4DB1-A49A-33F0CB7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E7A0-EE5B-4D9D-A12A-E6CA51C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6416-95C6-42FF-90F1-73C9503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43B7-2A1B-46AD-81D5-B79CA6F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965-EB0E-4EE8-ABEB-51128854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F400-D74E-4455-8619-D42394C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BF21-8022-44FE-AA7E-14E058F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19E1-E1B5-4851-AB29-F1C9993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2D0A-9459-4C9E-B868-9E8D0BB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2E2B-5A82-4D53-AD10-775AB36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DF10-E5E1-41D3-82A0-11FA251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15EF-606C-4C26-BFEB-4CE0BB5B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8C29-2465-4C9F-8E38-912706B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C009-B818-4D58-851C-7AF0EBD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BCCE-61A9-44A5-808E-2DE58FC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FCB-A313-490F-9B6C-F50A55D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CA9B-EFAB-4B4E-9E63-7FD25C5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82BE-C11B-48EB-AB20-83731A3E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C181-13D3-4445-A4C8-C0F7F8D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A4AC-B2DC-4BBD-8665-648BD3E0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B05E-D11B-4D0E-BFAD-59E59CC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743B-00DC-4184-99A4-E6467D89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8D15-8093-484A-8022-13E467C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FBAA-F55B-4121-A479-0889C60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B827-E6C2-4AAD-8952-231B86F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124-F40A-47DB-BE55-FD9856DC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1A3-02FB-439D-B6F7-6EF6C0C4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515-C4D8-4869-812B-D517887B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1F7-78FA-4C87-9897-A7E5053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79D-5729-4BB6-BE51-8CD4E80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3E2C-B973-4FAA-A1EA-2103E8798BB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DFD-38CC-4148-BB42-B7B363CD25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406-6974-4A94-AF0B-62B7C82251D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44B-AC2E-40F9-BF89-C26FC70A33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34FD-EA91-4193-A878-ABDC5604316D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9CF-CF6B-4A71-B683-DC4521DB5D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D1F-2AF7-4A88-A74A-30F5CCC33F11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MR2100   (C) Paul Tille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AC5-B6C0-445D-8F32-974EB33D65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993600" y="165240"/>
            <a:ext cx="8077320" cy="3601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3ECD-0EB1-4AFD-A781-EA07BBF99311}" type="datetime">
              <a:rPr b="0" lang="en-US" sz="1200" spc="-1" strike="noStrike">
                <a:solidFill>
                  <a:srgbClr val="d1eaee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Verdana"/>
              </a:rPr>
              <a:t>MR2100   (C) Paul Tilley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2340-4F57-4429-AB48-12C28A70FA2E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600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fferent Product Life Cycl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ength and shapes of product life cycles will vary depending on the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ical variations in life cycles inclu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igh Learning Products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very long introduction stages because consumers are forced to learn what the product is for and how to use it.  (DOS based computer progra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ow Learning Products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 fast rise to maturity because it is easy for a consumer to learn about and use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d Product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n extremely fast life 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shion Product life cyc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typified by a recurring life cycle whose frequency depends on the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F46-7CE1-4C19-9462-12E55EBD0B09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42B-DBB3-4F75-AC06-0ECF0FA459A7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tors Affecting the Consumer Adop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600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age barriers - the product is not compatible with existing consumer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lue barriers - the product provides no incentive to change us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 barriers 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sychologic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ltural differe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F89-F124-4FBC-A824-7196A1E59728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3B39-CF3F-4675-86ED-CEAD7ED043CC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815680" cy="152424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5515-4FD6-46F0-B98F-3A2AF61B3C9F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BA3-56A6-4F7B-9831-191824EB6597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457200" y="2057400"/>
          <a:ext cx="8001000" cy="32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800100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naging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organization would like to extend the life of its products to as long as pos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roduct Manager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manages the marketing efforts of the firm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roducts can be modifie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o meet new nee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Markets can be modified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by creating a new use situation, or by finding new us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AC1D-0F82-414F-83BC-480E627ADE9C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1BE-A8E8-44F0-8845-C33A4A7754D6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duct Repositio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nge the image of the product to extend its lif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s triggering a reposition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react to competi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reach to new marke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catch a rising tre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change the value offer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de up  - Raise the image/features/options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de down - Lower the image/features/option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FAF-77E1-4F98-9845-06E627759197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246-85B0-40C6-8992-D9357F447073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brand is a name, a phrase, a design, symbols (logo) or a combination of these to identify products and distinguish them from their competi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de name - the name under which a company does business (Apple compu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demark - the symbol (logo) that identifies the company and its produc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89F-83BD-4AED-BFC9-504E53139A46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E74-7B85-4572-A770-6C8AF2B78B48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Value of Brand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good brand name improves the value of the product (brand equ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and equity provides a competitive advan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Brand name endures changes in the mark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74AC-DE58-4A00-9C62-AAFA734FFDE2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2AC-7122-44ED-BFDF-86F9894B74E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and equity can be sold in the form of licensing arrangements.  Other companies pay a royalty to the original company for the right to produce the original companies product.  The original company is then free to focus on other t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6D11-E801-4408-8F83-152E40679438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44F-4EB2-4179-9063-3E38A3D44B2F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nding Strateg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81788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ufacturers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-Product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uro-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brand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obal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ed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ic Br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D40B-FB66-4A27-9B66-35E922BBD9A4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E57-40AA-41BB-A761-E54342B35E85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ckag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ckaging serves three major func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munications Benefits - it helps sell the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al Benefits - It contains the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ceptual Branding - the packeage conveys image and image change to the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A873-934C-4575-A551-450658DF1B5B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B07-22A8-40CE-B422-F6D61B405DC6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rom Developing A New Product to Managing the Produc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514600"/>
            <a:ext cx="82296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10 focused on the development of new products.  Chapter 11 picks up where chapter 10 left off -- The product has been introduced to the marketplace, now it has to be managed in such a way to maximize its revenue generating l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BD00-0E4B-4923-80B9-F33CD40C9A40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6A3-47DC-4C72-A63E-65C3B3688006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lobal Trends in Packag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ng with custom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vironmental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 and Safety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t Re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20A-8C7F-4E06-BAE9-09C9A7A2D111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014-4D22-4E1D-B896-0DE8A784674A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duct Warran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warranty reduces the risk involved in the purch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resent a significant marketing advant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6F7-BC6D-4242-BCF8-2E6D9E46497C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A27-2A8A-49CF-A91F-15CB646CEA5A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sp>
        <p:nvSpPr>
          <p:cNvPr id="2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9E82-09B7-4A34-9E3C-C4B3AA9CFA94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C4D-B244-429C-9733-79ED8386196F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838080" y="1981080"/>
          <a:ext cx="7543800" cy="41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54380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troduction -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an unknown entity in the marketpl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es are building but there is no profit being made on th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int of advertising is to make the consumer aware of the product and to inform them of its u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little of no compet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F89-0D6F-4347-9AD0-0D58939394C2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884-70C5-4139-864D-94EC32D3228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troduction –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ice is set either low (so as to penetrate the market and sell large quantities) or high (so as to recognize that few may be sold but a large profit will be skimmed from each product so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only sold a relatively few outlets and is not widely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few if only one model of the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029-A94B-40BC-8227-F5D6D1711117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BB3-9C3F-410E-B40E-AB03900AF3F3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 -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becoming better known in the marketpl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les and Profits are beginning to ris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etition is growing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oint of advertising is to make the consumer aware of the differences that exist in their product and competitive produc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ice is set to gain/maximize market sha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sold in progressively more outlets and is becoming more common in certain stores however it is not widely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product models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26F-C5D9-4BE7-ACBA-FD2EBFA08D9C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845-C427-4C04-BB9F-E48E6AB9C11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urity -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les and Profits have maximiz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are buying their second unit now so the goal is to maintain brand loyality. Advertising is reminder ori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mber of competitors have maxim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models of the product are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oduct is available in the maximum number of outl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2895-FE17-4C0D-BDF7-685D01803C85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813-8E0F-4806-96F5-E04BE3D254C9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Stages of the Product Life Cyc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line 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les and Profits have begun to decli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ople are buying newer products that have replace this produ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mber of competitors are decline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ly the best selling models of the product are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duct is available in fewer specially outle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is little or no promotion of the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is point the Producer has to make a choice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FEED-224D-4231-ABD4-BDD1C0894635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D3B5-E230-4F2A-BC23-AABEC82CA25D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ce the Product is in Dec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nies usually want to find better ways to use their resources once a product begins to hit the decline stage of its lifecyc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Basic options for the decline st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lete the produc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stop mak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arvest the Produc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Let sales continue as they are without expending resources on advertis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ract out the p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- Get some other manufacturer to make the product.  This frees up the company to make and sell other things while collecting royalties on the contracted out produc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5ED1-E9EC-43EB-B88F-4E9AB7D6F8E6}" type="datetime">
              <a:rPr b="0" lang="en-US" sz="1200" spc="-1" strike="noStrike">
                <a:solidFill>
                  <a:srgbClr val="045c75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F4C-9AA5-43F0-ABB7-6516D0E5826D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18:20:22Z</dcterms:created>
  <dc:creator>Paul/Evelyn Tilley</dc:creator>
  <dc:description/>
  <dc:language>en-US</dc:language>
  <cp:lastModifiedBy>Tilley, Paul (C'ville)</cp:lastModifiedBy>
  <cp:lastPrinted>1999-01-18T14:41:12Z</cp:lastPrinted>
  <dcterms:modified xsi:type="dcterms:W3CDTF">2012-01-04T18:15:19Z</dcterms:modified>
  <cp:revision>14</cp:revision>
  <dc:subject/>
  <dc:title>Managing the Product through its Life-Cy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